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5DF9-79FC-403F-9D8A-0A10318E3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90BD-7E25-4EBE-A1EE-163EB2F0A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15C5-93FF-4444-961F-A6F7B4696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35E-1342-43B4-B9B9-4A09E640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FA5B-1440-4C03-B841-D95895CF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2AC-6C3C-47B1-A54D-45B33C19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517-5944-42C0-A35E-2DE0E1E1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1403-BA01-4D83-B4C0-45056C15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4571-FA72-4226-A5B3-BABB9485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D5E1-2EBA-430F-A1FA-75EBF5C3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C64C-3971-41CF-A101-A4AA753F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4C5D-CA1D-469E-9FA8-AC46AE4D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47AF-4336-421C-BCAC-087AC6CA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D1A6-92D7-4659-81E3-FDE32C0F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894-3617-47C9-949B-47B3AFAF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54AA-6AB5-4A03-AC05-6E5FA4D5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F5EB-DA07-437F-BE0E-97E4FC7D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ED7A-CB02-45FC-98F1-2C5B799F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C937-7B35-4BDD-B737-AEA327A0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8B23-4C02-40A0-8DFC-505DAAFA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B9880-FA14-480A-A5D3-DB7C429C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4BA4A-5430-4E3C-BD3F-F5C6DAE5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DFE3F-ACEB-45C7-9457-8BDDEC73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AB614-7A28-493B-83E9-A40E97B7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27B92-0555-45EF-8099-AA319EA3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1A7-24F4-4EB6-BC23-A4A3B4A7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3D0F9-53CF-4D85-9705-A3DC258C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CE8A9-7147-4BDF-B737-CEC1F297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B74DC-4BFD-47B8-A1A4-F3276D6C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56B10-E35A-4397-AF65-5B65AE96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1013F-9E96-431A-95B5-22BD70E3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1E20F-100C-4581-A108-22117C0F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40E9E-5AF5-492E-907B-8BF48A42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A2784-0129-421E-8B23-75AF3AFE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3342A-FDB8-4065-BF94-8B1E65E5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A6C34-6176-42F4-BC37-B9EEBD54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69E-0A91-481C-9AB2-45FFBDC8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D9A9B-BC74-48CC-AAE0-A0E47582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7B75B-8754-4C42-B7DE-A3CE4C21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7E7D5-3466-4748-96DA-22CE2C04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F0BA4-F595-4634-868D-C3ACF681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CA26C-0A9B-4D3A-AE32-B986588A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EDD1D-E400-42CC-8F18-A5FFFD2E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A4686-42DA-40D6-A558-AAFEEB33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93AF2-C6E6-4982-92FF-650F4DE0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A0D63-2773-4EFF-A608-C8ABDF9C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0696CA-4E36-4E01-B81A-E422CB4C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60D-6CC7-46C0-A4B9-9777E8F8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9020C-356C-42F1-82F3-A47CA250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C77FB-BC59-4045-98CB-8DDF79C3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02293-B2DF-4A69-A0B3-784168B3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9241E-C23D-4407-8D71-606F14EE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4CA6D-A889-4113-8BAD-D5ED9D7D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697D6-DCE4-4ECB-AF7C-E1B7678F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1CD455-8C1A-4BAD-BE5B-0BFDA5C2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A22B5-8343-489E-AC24-4B9E7111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59D712-A6CA-4ABC-B876-6EC8BAB4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C1DF9-3209-4587-9719-07143C8F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441-346E-4F59-9B3C-AFF7154E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741092-8EF2-4B6F-9F41-7647F61D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9218E-251E-4169-BF66-3763426F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63FEAE-F7F1-486E-9C75-F8474BFE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1D2813-58C4-45EC-88BE-44A849E5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EAE474-6FDF-4D86-ACAA-497C803C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B6D7F2-A59C-41A8-B973-E5FEBBDF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2CDA5A-00F8-4654-9174-3F1A6BB8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B468B9-547A-46A3-B1B0-E3CA8E38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25EAD8-E06A-49AF-A436-B99028BE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745038-BC12-4B29-9D0C-16DB3041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AF8-0E65-40E2-A905-8D609007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0F441E-D2EE-4E82-AACE-A820A3F3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E42ABD-857F-4492-A473-13EDC389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62BF9-FA8E-4ABB-937D-BCEE22B6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20DB9F-434F-4EAD-9BB1-DA0DEE85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3D2733-4A74-4669-85A6-A34E5410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617BF5-1ECA-42A9-BF23-E206946E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F622C1-8DBD-4BC0-9711-9C0428E0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2B1224-71C9-44C7-81CA-FC78A061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2497F7-B3CF-43BD-991A-7B724253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B3AC0F-AFB2-43A4-A7AE-71C88F59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152-A2C0-451D-BB54-B1F8C713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EDF174-5501-4113-8C0B-8D52F475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6A398-BC57-4C17-92FD-2DDBE0D8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9E6D9-CCF9-4512-B98F-A09AEF27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15C605-FBB7-4591-96CB-0252D452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85CED2-FA46-477A-A8A0-FDB9B4DA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5136-8589-4F92-A69A-6A5E2B0C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BCA9-0325-45F1-944A-5C0DBB4743C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AC8F-232C-44DB-9305-BED3AA44B3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6E9C-C700-48ED-BBD6-DFA48BBEB6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8C1B-9DA7-4E8D-8408-05288B84A0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4751-A352-4CB8-8E47-8BC63EBD69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2A60-3211-4BD0-B848-365CC07594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A02E-8D4A-427C-859E-283484367E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14320" y="1785960"/>
            <a:ext cx="71434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TEGRATING FARMERS’ PRACTICES AND PERCEPTIONS INTO CROP MODELING</a:t>
            </a:r>
            <a:endParaRPr b="0" lang="en-US" sz="3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071360" y="5929200"/>
            <a:ext cx="71434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vember, 20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Title 1"/>
          <p:cNvSpPr/>
          <p:nvPr/>
        </p:nvSpPr>
        <p:spPr>
          <a:xfrm>
            <a:off x="1143000" y="3143160"/>
            <a:ext cx="757224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y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ddisu Asfaw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nvirnmental Science, MS.c Student, Ambo Univers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rcRect l="7720" t="1648" r="69956" b="87124"/>
          <a:stretch/>
        </p:blipFill>
        <p:spPr>
          <a:xfrm>
            <a:off x="5929200" y="0"/>
            <a:ext cx="1752840" cy="130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2" name="Picture 1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85840" y="285840"/>
            <a:ext cx="857232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2 Major Crop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able 2: Common crop types grown across the three landscape positio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entury Schoolbook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en-US" sz="2400" spc="-1" strike="noStrike">
                <a:solidFill>
                  <a:srgbClr val="7030a0"/>
                </a:solidFill>
                <a:latin typeface="Century Schoolbook"/>
              </a:rPr>
              <a:t>HHS and Field observation, 201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285840" y="1643040"/>
          <a:ext cx="8429400" cy="4295880"/>
        </p:xfrm>
        <a:graphic>
          <a:graphicData uri="http://schemas.openxmlformats.org/drawingml/2006/table">
            <a:tbl>
              <a:tblPr/>
              <a:tblGrid>
                <a:gridCol w="1928880"/>
                <a:gridCol w="3857400"/>
                <a:gridCol w="26431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Landscape 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Major Cro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Elevation (m as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Upper Z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Barley, Potato and Whea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700 - 3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Middle Z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Wheat, Teff and Sorgh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2300 - 2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Lower Z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Maize, Teff and Sorgh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30a0"/>
                          </a:solidFill>
                          <a:latin typeface="Century Schoolbook"/>
                        </a:rPr>
                        <a:t>&lt; 2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37520"/>
            <a:ext cx="825804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85840" y="785520"/>
            <a:ext cx="8572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3 Agronomic Practic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rop Rotation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Used as a best mechanism (91%)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40000"/>
              </a:lnSpc>
              <a:spcBef>
                <a:spcPts val="700"/>
              </a:spcBef>
              <a:buClr>
                <a:srgbClr val="fec3ae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maintain soil fertility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40000"/>
              </a:lnSpc>
              <a:spcBef>
                <a:spcPts val="700"/>
              </a:spcBef>
              <a:buClr>
                <a:srgbClr val="fec3ae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eed and disease control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40000"/>
              </a:lnSpc>
              <a:spcBef>
                <a:spcPts val="700"/>
              </a:spcBef>
              <a:buClr>
                <a:srgbClr val="fec3ae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educe soil erosion and enhance crop yiel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ollowed different pattern across the three agro-ecological zon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438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. . . CONT’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85840" y="785520"/>
            <a:ext cx="85010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arley =&gt; Fallow =&gt; Barley . . . . Upper Zon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heat =&gt; Teff =&gt; Wheat     . . . . Middle Zon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eff =&gt; Sorghum/Maize . . . . . . . Lower Zo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i. Fallowing Land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mmonly practiced in the upper zone (on 28% of 15 fields  or 9% of 45 fields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2580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. . . CONT’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571320"/>
            <a:ext cx="885816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ii. Tillage, Fertilizers and Seeding Ra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able 3: Tillage frequency, fertilizers and seeding rtes across the three landscape positi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428760" y="2286000"/>
          <a:ext cx="8143920" cy="3976560"/>
        </p:xfrm>
        <a:graphic>
          <a:graphicData uri="http://schemas.openxmlformats.org/drawingml/2006/table">
            <a:tbl>
              <a:tblPr/>
              <a:tblGrid>
                <a:gridCol w="657000"/>
                <a:gridCol w="824040"/>
                <a:gridCol w="809640"/>
                <a:gridCol w="763560"/>
                <a:gridCol w="763560"/>
                <a:gridCol w="763560"/>
                <a:gridCol w="601560"/>
                <a:gridCol w="839880"/>
                <a:gridCol w="639720"/>
                <a:gridCol w="844560"/>
                <a:gridCol w="636840"/>
              </a:tblGrid>
              <a:tr h="55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Landscape Positions with their major cr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Management Prac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Upper Z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Middle Z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Lower Z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B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Wh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Pot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Wh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Te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Sorgh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Te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Sorgh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Ma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FR (kg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D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U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Tillage F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SR (kg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6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58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. . . CONT’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28440"/>
            <a:ext cx="84009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6% of the sampled crop fields were tilled 3 – 4 tim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2%  1 to 2 times and 22% tilled 2 to 3 tim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3% of the monitored crop fields used no fertilizer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7% used at least DAP or both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580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85840" y="785520"/>
            <a:ext cx="8572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v. Compost application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ery few farmers applied compost/manure to their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rop fields (13% of all monitored fields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. Crop Variety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53% of HHs used improved varieties on the monitored crop field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 remaining 47% used local varieti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580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. . . CONT’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85840" y="71424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i. Weed Control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 addition to frequent tillage and crop rotation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7% of the total HHs removed weeds traditionally by han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nly 33% used agro-chemicals to control weeds (Barley and Wheat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58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. . . CONT’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85840" y="928800"/>
            <a:ext cx="88581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ii. Rainwater Management Practice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Times New Roman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 addition to the use of improved varieties, farmers applied very limited types of RWM system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Times New Roman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 most commonly used was surface drainage (100%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Times New Roman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ome farmers used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5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ut-off drainage (6.6%)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5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eep furrows (11%) and,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5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 2" charset="2"/>
              <a:buChar char="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eep tillage (22%)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296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. . . CONT’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85840" y="928800"/>
            <a:ext cx="85723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iii. Cropping calendar, Methods of sowing and Harvesting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lanting date was determined based on the time of onset of rainfall and optimum soil moisture required by each crop types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ost farmers (88%) practiced traditional method of sowing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ll sampled crops were also harvested traditionally with hand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3296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4 CROP PRODUCTIVIT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85840" y="928800"/>
            <a:ext cx="85010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Chart 3" descr=""/>
          <p:cNvPicPr/>
          <p:nvPr/>
        </p:nvPicPr>
        <p:blipFill>
          <a:blip r:embed="rId1"/>
          <a:stretch/>
        </p:blipFill>
        <p:spPr>
          <a:xfrm>
            <a:off x="353880" y="1206360"/>
            <a:ext cx="829656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78296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. 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85840" y="1356840"/>
            <a:ext cx="8858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ow water use efficiency is a   challenge to crop production in rainfed system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ater is getting continuously scarce due to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7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creased demand and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7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hrinking availability induced mainly by climate chang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3296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. . . CO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Content Placeholder 3" descr=""/>
          <p:cNvPicPr/>
          <p:nvPr/>
        </p:nvPicPr>
        <p:blipFill>
          <a:blip r:embed="rId1"/>
          <a:stretch/>
        </p:blipFill>
        <p:spPr>
          <a:xfrm>
            <a:off x="457200" y="1071720"/>
            <a:ext cx="81867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258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5 AMOUNT OF WATER CONSUME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5" name="Content Placeholder 3" descr=""/>
          <p:cNvPicPr/>
          <p:nvPr/>
        </p:nvPicPr>
        <p:blipFill>
          <a:blip r:embed="rId1"/>
          <a:stretch/>
        </p:blipFill>
        <p:spPr>
          <a:xfrm>
            <a:off x="500040" y="1143000"/>
            <a:ext cx="8001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115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6 PHYSICAL CROP WATER PRODUCTIVITY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7" name="Content Placeholder 4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78580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0438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3.7 ECONOMIC WATER PRODUCTIVITY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81439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25804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entury Schoolbook"/>
              </a:rPr>
              <a:t>4. DETERMINANT FACTO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85480" y="1142640"/>
            <a:ext cx="8429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entury Schoolbook"/>
              </a:rPr>
              <a:t>Economic WP shows variations due to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92480" indent="-209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ifference in agro-ecology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92480" indent="-209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rop types and variety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92480" indent="-209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ypes of precursor crops used in the rotation systems and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92480" indent="-209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ate of inorganic fertilizers us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92480" indent="-20988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92480" indent="-20988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92480" indent="-20988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92480" indent="-209880">
              <a:lnSpc>
                <a:spcPct val="15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3296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entury Schoolbook"/>
              </a:rPr>
              <a:t>5. CONCLUSI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57120" y="1142640"/>
            <a:ext cx="8429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entury Schoolbook"/>
              </a:rPr>
              <a:t>Farmers used their own perception and practices to enhance crop yield and thereby improve CWP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Century Schoolbook"/>
              </a:rPr>
              <a:t>They have adopted tillage and crop rotation methods, agronomic practices, and RWM practices to maximize yield from available wate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. . . CONT’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85840" y="999720"/>
            <a:ext cx="8501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mong the major crops the leading water consumer was maize followed by sorghum and potato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otato was the most appropriate crop both in economic and physical WP in the upper zon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eff  had the highest local market demand from all other crops in the middle and lower zon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5840" y="2142720"/>
            <a:ext cx="850104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030a0"/>
              </a:solidFill>
              <a:latin typeface="Century Schoolbook"/>
            </a:endParaRPr>
          </a:p>
        </p:txBody>
      </p:sp>
      <p:sp>
        <p:nvSpPr>
          <p:cNvPr id="417" name="Flowchart: Punched Tape 2"/>
          <p:cNvSpPr/>
          <p:nvPr/>
        </p:nvSpPr>
        <p:spPr>
          <a:xfrm rot="21388800">
            <a:off x="341280" y="1207800"/>
            <a:ext cx="8218440" cy="3938400"/>
          </a:xfrm>
          <a:prstGeom prst="flowChartPunchedTape">
            <a:avLst/>
          </a:prstGeom>
          <a:solidFill>
            <a:srgbClr val="ffffff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entury Schoolbook"/>
              </a:rPr>
              <a:t>Thank you for your attentio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…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T’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85840" y="928800"/>
            <a:ext cx="85723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s agriculture is the major consumer of water, improving CWP is among the ways of overcoming the challeng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e major objective of this study is, therefore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>
              <a:lnSpc>
                <a:spcPct val="9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 estimate WP of major crops grown under rainfed system through indigenous knowledge of farmers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357120"/>
            <a:ext cx="74674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MATERIALS AND METHOD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Content Placeholder 2" descr=""/>
          <p:cNvPicPr/>
          <p:nvPr/>
        </p:nvPicPr>
        <p:blipFill>
          <a:blip r:embed="rId1"/>
          <a:stretch/>
        </p:blipFill>
        <p:spPr>
          <a:xfrm>
            <a:off x="407880" y="914400"/>
            <a:ext cx="8102880" cy="57675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2"/>
          <a:stretch/>
        </p:blipFill>
        <p:spPr>
          <a:xfrm>
            <a:off x="857160" y="2928960"/>
            <a:ext cx="51436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115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…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T’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85480" y="928440"/>
            <a:ext cx="8429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2 Data Collection Method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armers’ practices and perceptions were understood through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>
              <a:lnSpc>
                <a:spcPct val="17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HS and personal communications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>
              <a:lnSpc>
                <a:spcPct val="17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ocus group discussion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>
              <a:lnSpc>
                <a:spcPct val="17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formal surveys and,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72880">
              <a:lnSpc>
                <a:spcPct val="17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ersonal Observation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…</a:t>
            </a: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CONT’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85840" y="785520"/>
            <a:ext cx="85010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epresentative crop fields were randomly selected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gronomic practices implemented were monitore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M and GY or TY of each crop was determined using a quadrate sampling metho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WR was simulated using CROPWAT model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rom CWR average WC by each crop was calculate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oth PWP (kg/m3) and EWP (birr/m3) were determined at harvest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. . . CONT’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143000"/>
            <a:ext cx="82580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entury Schoolbook"/>
              </a:rPr>
              <a:t>WC = ETC – I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entury Schoolbook"/>
              </a:rPr>
              <a:t>CWP = </a:t>
            </a:r>
            <a:r>
              <a:rPr b="0" lang="en-US" sz="3200" spc="-1" strike="noStrike" u="sng">
                <a:solidFill>
                  <a:srgbClr val="7030a0"/>
                </a:solidFill>
                <a:uFillTx/>
                <a:latin typeface="Century Schoolbook"/>
              </a:rPr>
              <a:t>Crop Product (kg/ha)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entury Schoolbook"/>
              </a:rPr>
              <a:t>WC (m3)</a:t>
            </a:r>
            <a:r>
              <a:rPr b="0" lang="en-US" sz="3200" spc="-1" strike="noStrike" u="sng">
                <a:solidFill>
                  <a:srgbClr val="7030a0"/>
                </a:solidFill>
                <a:uFillTx/>
                <a:latin typeface="Century Schoolboo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438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RESULT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85840" y="1071360"/>
            <a:ext cx="85723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ased on the farmers’ practices and perception the following results were obtained 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285840" y="0"/>
            <a:ext cx="85010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1 Local Classification System of Agro-ecology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71280" y="977760"/>
          <a:ext cx="8786880" cy="5249880"/>
        </p:xfrm>
        <a:graphic>
          <a:graphicData uri="http://schemas.openxmlformats.org/drawingml/2006/table">
            <a:tbl>
              <a:tblPr/>
              <a:tblGrid>
                <a:gridCol w="1428840"/>
                <a:gridCol w="3571920"/>
                <a:gridCol w="2043000"/>
                <a:gridCol w="1743120"/>
              </a:tblGrid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Table 1: Indicators of  local agro-ec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Landscape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Local 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Natural Vege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Dominant cr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Atmo. Temp. cond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Upper Z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Qerero/ </a:t>
                      </a:r>
                      <a:r>
                        <a:rPr b="0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Amionguria altuss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Koso/</a:t>
                      </a:r>
                      <a:r>
                        <a:rPr b="0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Hagenia abyssi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Cedar/</a:t>
                      </a:r>
                      <a:r>
                        <a:rPr b="0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Juniperous proc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Olive /</a:t>
                      </a:r>
                      <a:r>
                        <a:rPr b="0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Olea erpaea . . .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Barley, Potato, Enset &amp; Wh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Cold - Very c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Middle Z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Shola/</a:t>
                      </a:r>
                      <a:r>
                        <a:rPr b="0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Ficus Sp.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Zigba/</a:t>
                      </a:r>
                      <a:r>
                        <a:rPr b="0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Podocarpus gracil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Broad-leaved corton/</a:t>
                      </a:r>
                      <a:r>
                        <a:rPr b="0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Croton macrostachys . . .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Wheat, Teff &amp; Sorgh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Warm - C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Lower Z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Wanza/</a:t>
                      </a:r>
                      <a:r>
                        <a:rPr b="0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Cordia abyssi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Warka and,Acacia tress. . .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Maize, Teff, Sorghum &amp; Niger Seed,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Very hot - H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06:32:44Z</dcterms:created>
  <dc:creator>ACER</dc:creator>
  <dc:description/>
  <dc:language>en-US</dc:language>
  <cp:lastModifiedBy>ACER</cp:lastModifiedBy>
  <dcterms:modified xsi:type="dcterms:W3CDTF">2012-11-12T11:23:25Z</dcterms:modified>
  <cp:revision>28</cp:revision>
  <dc:subject/>
  <dc:title>Integrating Farmers’ Practices and Perceptions into Crop Modeling</dc:title>
</cp:coreProperties>
</file>